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AC4B-5C7B-441F-A90E-5AA26494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5598-32CF-4EEF-8105-9F9960A13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B39-5A0E-481D-9FAC-2CBDE20B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68D-5099-42F6-A668-3EA7DAB8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3AF-7E33-4153-9622-297C4662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EE3-0EED-4726-8D2C-5BD9B7E9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1A4E-AB2D-447B-9773-D9335A55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04FE-111F-41F3-A483-5242FDE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FC97-19FC-4455-8478-97B1A15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FF2C-47BC-4C32-B0E9-D2926CC4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D617-AA13-4855-B8F2-77F61D87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62C6-DA74-4B45-99EA-182A8224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2139-31C9-4571-8C26-2EBFE040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455-CF8C-4168-97EB-B9E798BB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882C-727E-48A6-A5EE-5030F99D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399F-640E-468A-AE00-6F1C811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B741-FD46-42E9-833C-C652A30E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5AC1-EAC0-4206-97E0-A184C8F2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E966-805A-46C4-8338-5E51900E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0A3-75E4-4A6C-AB95-71CCF0C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5D4-C30B-476B-9C5E-9CB7187A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7B0-961B-4FF8-B5AB-1ADF95B9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E30-96CF-4E81-A0FD-1D3AB18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206-CF62-4135-93DD-FE2F063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D37-2FCD-4A51-8620-B29EC49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2C7-0D74-40BA-B4CB-1EA83FF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171-656F-4F51-8B82-83F37EC9CA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7DF-2A03-442E-8F74-E4DD43256E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youtube.com/watch?v=n8zBC2dvER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o to Cartograph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cartograp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Globes vs. Map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pro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throug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ping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2" descr="jesterworld"/>
          <p:cNvPicPr/>
          <p:nvPr/>
        </p:nvPicPr>
        <p:blipFill>
          <a:blip r:embed="rId1"/>
          <a:stretch/>
        </p:blipFill>
        <p:spPr>
          <a:xfrm>
            <a:off x="4800600" y="1447920"/>
            <a:ext cx="3581280" cy="23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gis"/>
          <p:cNvPicPr/>
          <p:nvPr/>
        </p:nvPicPr>
        <p:blipFill>
          <a:blip r:embed="rId2"/>
          <a:stretch/>
        </p:blipFill>
        <p:spPr>
          <a:xfrm>
            <a:off x="5334120" y="4038480"/>
            <a:ext cx="25812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rupted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globeint"/>
          <p:cNvPicPr/>
          <p:nvPr/>
        </p:nvPicPr>
        <p:blipFill>
          <a:blip r:embed="rId1"/>
          <a:stretch/>
        </p:blipFill>
        <p:spPr>
          <a:xfrm>
            <a:off x="1523880" y="2057400"/>
            <a:ext cx="1982880" cy="3306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nter"/>
          <p:cNvPicPr/>
          <p:nvPr/>
        </p:nvPicPr>
        <p:blipFill>
          <a:blip r:embed="rId2"/>
          <a:stretch/>
        </p:blipFill>
        <p:spPr>
          <a:xfrm>
            <a:off x="4495680" y="2819520"/>
            <a:ext cx="4038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obinson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jection blends techniques to make it a more accurate in thre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robinsonproj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jection Compari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tor (cylindric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(or false!)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inson (comprom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accurat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accurate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accurat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Conven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ps h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" y="18288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        O        D        A        L         S      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5800" y="2362320"/>
            <a:ext cx="62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828800" y="2286000"/>
            <a:ext cx="62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048120" y="2286000"/>
            <a:ext cx="62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267080" y="2286000"/>
            <a:ext cx="62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410080" y="2286000"/>
            <a:ext cx="62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705720" y="2286000"/>
            <a:ext cx="62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7772400" y="2286000"/>
            <a:ext cx="62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atic (special purpo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hysical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w one or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ur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, such as mountains, lakes, rivers, and cl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 maps sho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p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ography:  different elevations on the earth’s surface (height above sea level, such as hills, valleys, mount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ca"/>
          <p:cNvPicPr/>
          <p:nvPr/>
        </p:nvPicPr>
        <p:blipFill>
          <a:blip r:embed="rId1"/>
          <a:stretch/>
        </p:blipFill>
        <p:spPr>
          <a:xfrm>
            <a:off x="2097000" y="277920"/>
            <a:ext cx="49500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itical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maps show human-ma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itical boundaries and feat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ncluding country borders, state or province borders, capitals, and c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namerica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atic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atic maps are special-purpose maps that show one or more specific features, or the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types of thematic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295280" indent="-53316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l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95280" indent="-53316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alitative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aps show some “quality” (feature, phenomena) of the earth or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statelu"/>
          <p:cNvPicPr/>
          <p:nvPr/>
        </p:nvPicPr>
        <p:blipFill>
          <a:blip r:embed="rId1"/>
          <a:stretch/>
        </p:blipFill>
        <p:spPr>
          <a:xfrm>
            <a:off x="914400" y="28195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345560" y="548640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NESOTA LAND USE AND COV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0s CENSUS OF THE L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cartograph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tography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ci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mapm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tographers are specially-trained geograp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are a geographer’s most important tool for thinking spatially (distribution and patter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ap serves two pur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5520" indent="-517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ool for storing referenc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5520" indent="-517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ool for communicating geographic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antitative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aps display “quantities” (numbers) in a visua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k3worldpop"/>
          <p:cNvPicPr/>
          <p:nvPr/>
        </p:nvPicPr>
        <p:blipFill>
          <a:blip r:embed="rId1"/>
          <a:stretch/>
        </p:blipFill>
        <p:spPr>
          <a:xfrm>
            <a:off x="2057400" y="2666880"/>
            <a:ext cx="5238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s Through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ldest known maps were made on clay tablets by the Babylonians (~2300 B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cient Greeks and Romans made many advances in cartography (i.e., Ptolem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Ages (~1200s-1400s), maps often had religious themes; Arabs excelled in mapma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Renaissance, printing presses made maps widely available; maps often were based on exploration and used for navig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ptolemy"/>
          <p:cNvPicPr/>
          <p:nvPr/>
        </p:nvPicPr>
        <p:blipFill>
          <a:blip r:embed="rId1"/>
          <a:stretch/>
        </p:blipFill>
        <p:spPr>
          <a:xfrm>
            <a:off x="6324480" y="1981080"/>
            <a:ext cx="2667240" cy="176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rosselli"/>
          <p:cNvPicPr/>
          <p:nvPr/>
        </p:nvPicPr>
        <p:blipFill>
          <a:blip r:embed="rId2"/>
          <a:stretch/>
        </p:blipFill>
        <p:spPr>
          <a:xfrm>
            <a:off x="6324480" y="4800600"/>
            <a:ext cx="2703600" cy="1541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alidrisi"/>
          <p:cNvPicPr/>
          <p:nvPr/>
        </p:nvPicPr>
        <p:blipFill>
          <a:blip r:embed="rId3"/>
          <a:stretch/>
        </p:blipFill>
        <p:spPr>
          <a:xfrm>
            <a:off x="4495680" y="3429000"/>
            <a:ext cx="17528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dern Cartograph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became more accurate in the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ies as technologies impr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 most all maps are made on computers that use GIS (Geographic Information Syste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technologies used in cartography are aerial photography, satellite imagery, and G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gislayers"/>
          <p:cNvPicPr/>
          <p:nvPr/>
        </p:nvPicPr>
        <p:blipFill>
          <a:blip r:embed="rId1"/>
          <a:stretch/>
        </p:blipFill>
        <p:spPr>
          <a:xfrm>
            <a:off x="5859360" y="1600200"/>
            <a:ext cx="161604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hernobylin1986"/>
          <p:cNvPicPr/>
          <p:nvPr/>
        </p:nvPicPr>
        <p:blipFill>
          <a:blip r:embed="rId2"/>
          <a:stretch/>
        </p:blipFill>
        <p:spPr>
          <a:xfrm>
            <a:off x="5146560" y="3941640"/>
            <a:ext cx="3040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st accurate physical representation of the earth is a globe; still, even globes are inaccu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, why not use a globe if they are more accu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2" descr="globe"/>
          <p:cNvPicPr/>
          <p:nvPr/>
        </p:nvPicPr>
        <p:blipFill>
          <a:blip r:embed="rId1"/>
          <a:stretch/>
        </p:blipFill>
        <p:spPr>
          <a:xfrm>
            <a:off x="5638680" y="1752480"/>
            <a:ext cx="25164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Sc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raw at different scales?  Different need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-45720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-45720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le shows the ratio of distance and area on the earth to the distance and area on the m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n inverse relationship between the ratio and the “size” of the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2" descr="largescale"/>
          <p:cNvPicPr/>
          <p:nvPr/>
        </p:nvPicPr>
        <p:blipFill>
          <a:blip r:embed="rId1"/>
          <a:stretch/>
        </p:blipFill>
        <p:spPr>
          <a:xfrm>
            <a:off x="5791320" y="403848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smallscale"/>
          <p:cNvPicPr/>
          <p:nvPr/>
        </p:nvPicPr>
        <p:blipFill>
          <a:blip r:embed="rId2"/>
          <a:stretch/>
        </p:blipFill>
        <p:spPr>
          <a:xfrm>
            <a:off x="57913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Proje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ps are inaccurate in at least one way…they distort the ear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round to fl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four true measures, not all of which can be included in a single flat m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distance (great cir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direction (great cir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Proje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ethods of representing the round earth on a flat surface are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pose of the map helps determine which projection to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jection Meth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formulas (algebraic, trigonometric) are used to plot the round earth on a piece of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ographers used math to do what a flashlight and clear globe would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lightedge"/>
          <p:cNvPicPr/>
          <p:nvPr/>
        </p:nvPicPr>
        <p:blipFill>
          <a:blip r:embed="rId1"/>
          <a:stretch/>
        </p:blipFill>
        <p:spPr>
          <a:xfrm>
            <a:off x="5181480" y="1600200"/>
            <a:ext cx="1219320" cy="235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lightcenter"/>
          <p:cNvPicPr/>
          <p:nvPr/>
        </p:nvPicPr>
        <p:blipFill>
          <a:blip r:embed="rId2"/>
          <a:stretch/>
        </p:blipFill>
        <p:spPr>
          <a:xfrm>
            <a:off x="7010280" y="1600200"/>
            <a:ext cx="123048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ortho-rays"/>
          <p:cNvPicPr/>
          <p:nvPr/>
        </p:nvPicPr>
        <p:blipFill>
          <a:blip r:embed="rId3"/>
          <a:stretch/>
        </p:blipFill>
        <p:spPr>
          <a:xfrm>
            <a:off x="5257800" y="42670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rcator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Picture 8" descr="mercator"/>
          <p:cNvPicPr/>
          <p:nvPr/>
        </p:nvPicPr>
        <p:blipFill>
          <a:blip r:embed="rId1"/>
          <a:stretch/>
        </p:blipFill>
        <p:spPr>
          <a:xfrm>
            <a:off x="861840" y="1555920"/>
            <a:ext cx="3938760" cy="391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yl-rays"/>
          <p:cNvPicPr/>
          <p:nvPr/>
        </p:nvPicPr>
        <p:blipFill>
          <a:blip r:embed="rId2"/>
          <a:stretch/>
        </p:blipFill>
        <p:spPr>
          <a:xfrm>
            <a:off x="4876920" y="3429000"/>
            <a:ext cx="3657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ters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controversial” map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believe it is reduces inflated beliefs in western (Euro &amp; American) supe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believe it doesn’t deserve that much credit—it’s just another 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peterms"/>
          <p:cNvPicPr/>
          <p:nvPr/>
        </p:nvPicPr>
        <p:blipFill>
          <a:blip r:embed="rId1"/>
          <a:stretch/>
        </p:blipFill>
        <p:spPr>
          <a:xfrm>
            <a:off x="4343400" y="2209680"/>
            <a:ext cx="4114800" cy="2549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670572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est 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8:24:26Z</dcterms:created>
  <dc:creator>Stephanie Forsland</dc:creator>
  <dc:description/>
  <dc:language>en-US</dc:language>
  <cp:lastModifiedBy>hberndt</cp:lastModifiedBy>
  <dcterms:modified xsi:type="dcterms:W3CDTF">2009-10-15T13:21:52Z</dcterms:modified>
  <cp:revision>54</cp:revision>
  <dc:subject/>
  <dc:title>Intro to Cartography</dc:title>
</cp:coreProperties>
</file>